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C94-9001-4DD8-9B70-7B64E7A8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424-34D4-440F-9B2D-ECAC2F83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74F-2B22-475F-A82C-CF81A663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51D-62F0-44F3-8F38-9ECB0096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F23-2E81-451E-ACE5-F252D815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2F8-E1E0-4BF1-9B90-DC5CC88B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21B-C5B3-4111-AEB8-CA30F21C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7FB-1147-45B6-8055-BE30B624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CA4-1330-45C9-B9C8-E1BC8991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739-D30E-45F7-AF6B-7EFDD7F0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435-E15B-481E-A719-1E4CD68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35C-0AFB-4273-AA83-4A0EB3F4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0C6C-0E59-4099-85ED-9FAC2BA77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re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rotestant re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crucifixes, relics, stained-glass windows, and murals from their chur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d shrines and pilgr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spect of re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for a warm, emotional religion all coul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husiasm was a key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s a drunkard becomes filled with wine, so must the congregation become filled with spir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s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ble reading and study were extended to all classes, a powerful spur for individual religious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serted the earlier radical stress on the priesthood of all belie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s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d in the practical power of Christian rebirth in everyday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expected to lead good, moral lives regardless of soci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as a group at Oxford known as The Holy Club (organized by John Wesley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called Methodists because they were very methodical in their dev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d by problems with the faith in Eng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d simony, not building churches to accommodate the growing population, and skepticism caused by the Enlighte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Wes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led 250,000 miles on horse back over 50 years, preaching over 40,000 ser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ed Calvin’s “Predestin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ministry eventually became the new denomination known as Method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47:56Z</dcterms:created>
  <dc:creator>MNS</dc:creator>
  <dc:description/>
  <dc:language>en-US</dc:language>
  <cp:lastModifiedBy>MNS</cp:lastModifiedBy>
  <dcterms:modified xsi:type="dcterms:W3CDTF">2009-12-04T14:12:03Z</dcterms:modified>
  <cp:revision>2</cp:revision>
  <dc:subject/>
  <dc:title>Protestant revival</dc:title>
</cp:coreProperties>
</file>